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B0CD-CA3F-4725-9F93-48DF3D16C4F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3BE9-9ACF-47BB-B8DC-7A96A0680285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在擴增實境之中，真實與虛擬之間，若是比較靠近「真實」端者，即「真實」的成份高於「虛擬」者，則稱之「擴增實境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ugmented Reality)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相對而言，如果是「虛擬」之比例較高時，則稱之為「擴增虛境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ugmented Virtuali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C2F3-4E76-46AB-9165-2CBE7484984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AR</a:t>
            </a:r>
            <a:r>
              <a:rPr b="0" lang="zh-TW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擴增實境</a:t>
            </a:r>
            <a:r>
              <a:rPr b="0" lang="en-US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(Augmented Reality)</a:t>
            </a:r>
            <a:r>
              <a:rPr b="0" lang="zh-TW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，是以</a:t>
            </a:r>
            <a:r>
              <a:rPr b="0" lang="en-US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VR</a:t>
            </a:r>
            <a:r>
              <a:rPr b="0" lang="zh-TW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虛擬實境</a:t>
            </a:r>
            <a:r>
              <a:rPr b="0" lang="en-US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(Virtual Reality)</a:t>
            </a:r>
            <a:r>
              <a:rPr b="0" lang="zh-TW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為出發的新互動技術。透過虛擬實境設備，我們可以將實際上並不存在現場的物件或景象，投影在指定的真實空間。操作者便可藉由</a:t>
            </a:r>
            <a:r>
              <a:rPr b="0" lang="en-US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AR</a:t>
            </a:r>
            <a:r>
              <a:rPr b="0" lang="zh-TW" sz="1200" spc="-1" strike="noStrike">
                <a:solidFill>
                  <a:srgbClr val="000066"/>
                </a:solidFill>
                <a:latin typeface="微軟正黑體"/>
                <a:ea typeface="微軟正黑體"/>
              </a:rPr>
              <a:t>擴增實境系統，進行資訊展示或取得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B809-8DC5-4B02-90D2-61F39636262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383-06EF-4A3C-869B-60CB7A43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004A-CCA8-432D-B44C-FD1FA4E7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E40-24EB-4E50-B72C-4B97D692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23A6-88E3-4938-BF32-12F5BE47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1622-21D9-4A69-BAD0-1DAA94CF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1BAD-07AF-4447-96E1-5D92972A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FB66-9DD7-4B85-8B2D-BD50B970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00DD-54A0-4A8E-8C24-99062B09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0D07-22CA-48AC-ABEB-F1C0436C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9FC7-052F-42DC-81F5-FC48D43A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C299-4289-470B-B172-6C4340E0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C019-4418-4D92-A5F9-701190D8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1326-0A11-4A38-A57C-37AA249C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960A-7E49-4573-B015-F113627A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FA2C-4AD8-45E4-9879-EEE0E970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CDF9-077A-4288-B6F1-AD27BFD9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9C8A-9061-4E28-8B42-A6962033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B4DB3-994C-4C99-9780-1CC7DA85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A3515-44E9-419C-B769-B573D1BC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64113-B45E-458A-9198-1A57BCC3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82840-16E1-427C-B210-AB57C7FD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2B723-CCC1-42DC-A8D9-4325BC44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D6E-4E52-4677-B0A2-D7B344C0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16987-5474-4803-A220-26C6F935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ACA0E-25B3-4A31-B179-CEC0D874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F9F25-5CD3-41F8-8DAF-8CB88995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6EA3-B016-4028-8788-B1E3197F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2955-A43A-4086-B485-7408FC93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D6F09-AE80-4417-9DAB-CB863327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D7CF1-B831-4579-B58A-7C545298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D9E-A5C5-4FEF-9F48-156CB8EF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3F5-5EE5-4A15-B5F5-38D95C86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5F6A-3123-4129-87CD-7D86CDC3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08F-5C33-4D66-9292-BF2A09DC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CDA-AD42-443F-B16F-E3076CE5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FEE3-B4A2-40BB-A6A2-52E2696F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3B63-CBCF-46C2-AB1B-1463D51FE193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B7E4-B6D1-42D1-B6B0-475ED84179E1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線接點 6"/>
          <p:cNvSpPr/>
          <p:nvPr/>
        </p:nvSpPr>
        <p:spPr>
          <a:xfrm flipH="1" flipV="1">
            <a:off x="3142800" y="1213920"/>
            <a:ext cx="6000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0C0D-3024-4D57-AC8A-27C44DC3AAF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8800" y="2205000"/>
            <a:ext cx="7772400" cy="13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擴增實境</a:t>
            </a:r>
            <a:br>
              <a:rPr sz="3600"/>
            </a:b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Calibri"/>
              </a:rPr>
              <a:t>(Augmented Reality, A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2860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98989"/>
                </a:solidFill>
                <a:latin typeface="微軟正黑體"/>
                <a:ea typeface="微軟正黑體"/>
              </a:rPr>
              <a:t>文大資管數位學習科技組學分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98989"/>
                </a:solidFill>
                <a:latin typeface="微軟正黑體"/>
                <a:ea typeface="微軟正黑體"/>
              </a:rPr>
              <a:t>蔡淑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微軟正黑體"/>
                <a:ea typeface="微軟正黑體"/>
              </a:rPr>
              <a:t>99/10/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3280" y="260280"/>
            <a:ext cx="6121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主體互動性擴增實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無論是資訊性或主體互動性都是而人為主體。兩者最大的分別在於镜頭的方向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前者的鏡頭和我們的視線是同一方向，而後者的镜頭是對着主體和我們的視線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相反方向。正因如此，這個主體會同時出現在影象當中，並可以產生互動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2411280" y="2781360"/>
            <a:ext cx="5343480" cy="33433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7"/>
          <p:cNvSpPr/>
          <p:nvPr/>
        </p:nvSpPr>
        <p:spPr>
          <a:xfrm>
            <a:off x="3051000" y="6238080"/>
            <a:ext cx="40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例如</a:t>
            </a: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, 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微軟的</a:t>
            </a: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XBox Kinect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便是利用了此方面的技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Oval 2"/>
          <p:cNvSpPr/>
          <p:nvPr/>
        </p:nvSpPr>
        <p:spPr>
          <a:xfrm>
            <a:off x="3500280" y="1785960"/>
            <a:ext cx="2629080" cy="2628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9e8b8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WordArt 5"/>
          <p:cNvSpPr txBox="1"/>
          <p:nvPr/>
        </p:nvSpPr>
        <p:spPr>
          <a:xfrm>
            <a:off x="3662280" y="4714920"/>
            <a:ext cx="240984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80"/>
                </a:solidFill>
                <a:latin typeface="微軟正黑體"/>
              </a:rPr>
              <a:t>謝謝指教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latin typeface="微軟正黑體"/>
              <a:ea typeface="微軟正黑體"/>
            </a:endParaRPr>
          </a:p>
        </p:txBody>
      </p:sp>
      <p:sp>
        <p:nvSpPr>
          <p:cNvPr id="259" name="矩形 5"/>
          <p:cNvSpPr/>
          <p:nvPr/>
        </p:nvSpPr>
        <p:spPr>
          <a:xfrm>
            <a:off x="2734920" y="557208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Arial Unicode MS"/>
              </a:rPr>
              <a:t>The Shortest Distance to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擴增實境的定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所謂擴增實境（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Augmented reality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簡稱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AR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），就是將真實世界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圖片、素材和資料，與電腦裡的虛擬世界加以結合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AR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是由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VR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所衍生出來的一種技術，它是一種將虛擬資訊擴增到現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空間中的技術，他所強調的不是要取代現實空間，而是在現實空間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添加一個虛擬物件，藉由攝影機的辨識技術與電腦程式的結合，當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定好的圖片出現在鏡頭裡面，就會出現對應的虛擬物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橢圓 20"/>
          <p:cNvSpPr/>
          <p:nvPr/>
        </p:nvSpPr>
        <p:spPr>
          <a:xfrm>
            <a:off x="4427640" y="2133720"/>
            <a:ext cx="3671640" cy="3743280"/>
          </a:xfrm>
          <a:prstGeom prst="ellipse">
            <a:avLst/>
          </a:prstGeom>
          <a:solidFill>
            <a:srgbClr val="d7e4bd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橢圓 19"/>
          <p:cNvSpPr/>
          <p:nvPr/>
        </p:nvSpPr>
        <p:spPr>
          <a:xfrm>
            <a:off x="1044720" y="2205000"/>
            <a:ext cx="3671640" cy="374508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「真實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-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虛擬之連續性」理論基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"/>
          <p:cNvGrpSpPr/>
          <p:nvPr/>
        </p:nvGrpSpPr>
        <p:grpSpPr>
          <a:xfrm>
            <a:off x="971640" y="2276640"/>
            <a:ext cx="7483320" cy="4392000"/>
            <a:chOff x="971640" y="2276640"/>
            <a:chExt cx="7483320" cy="4392000"/>
          </a:xfrm>
        </p:grpSpPr>
        <p:sp>
          <p:nvSpPr>
            <p:cNvPr id="140" name="AutoShape 15"/>
            <p:cNvSpPr/>
            <p:nvPr/>
          </p:nvSpPr>
          <p:spPr>
            <a:xfrm>
              <a:off x="971640" y="2276640"/>
              <a:ext cx="7483320" cy="34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Group 3"/>
            <p:cNvGrpSpPr/>
            <p:nvPr/>
          </p:nvGrpSpPr>
          <p:grpSpPr>
            <a:xfrm>
              <a:off x="1365480" y="2349000"/>
              <a:ext cx="6399720" cy="3023640"/>
              <a:chOff x="1365480" y="2349000"/>
              <a:chExt cx="6399720" cy="3023640"/>
            </a:xfrm>
          </p:grpSpPr>
          <p:sp>
            <p:nvSpPr>
              <p:cNvPr id="142" name="Text Box 14"/>
              <p:cNvSpPr/>
              <p:nvPr/>
            </p:nvSpPr>
            <p:spPr>
              <a:xfrm>
                <a:off x="1365480" y="3622320"/>
                <a:ext cx="492120" cy="153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800" spc="-1" strike="noStrike">
                    <a:solidFill>
                      <a:srgbClr val="000000"/>
                    </a:solidFill>
                    <a:latin typeface="微軟正黑體"/>
                    <a:ea typeface="微軟正黑體"/>
                  </a:rPr>
                  <a:t>真實環境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Group 4"/>
              <p:cNvGrpSpPr/>
              <p:nvPr/>
            </p:nvGrpSpPr>
            <p:grpSpPr>
              <a:xfrm>
                <a:off x="1660680" y="2349000"/>
                <a:ext cx="6104520" cy="3023640"/>
                <a:chOff x="1660680" y="2349000"/>
                <a:chExt cx="6104520" cy="3023640"/>
              </a:xfrm>
            </p:grpSpPr>
            <p:sp>
              <p:nvSpPr>
                <p:cNvPr id="144" name="Line 13"/>
                <p:cNvSpPr/>
                <p:nvPr/>
              </p:nvSpPr>
              <p:spPr>
                <a:xfrm>
                  <a:off x="1660680" y="3313080"/>
                  <a:ext cx="5908680" cy="0"/>
                </a:xfrm>
                <a:prstGeom prst="line">
                  <a:avLst/>
                </a:prstGeom>
                <a:ln w="3816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2"/>
                <p:cNvSpPr/>
                <p:nvPr/>
              </p:nvSpPr>
              <p:spPr>
                <a:xfrm>
                  <a:off x="1660680" y="3208320"/>
                  <a:ext cx="0" cy="207360"/>
                </a:xfrm>
                <a:prstGeom prst="line">
                  <a:avLst/>
                </a:prstGeom>
                <a:ln w="3816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11"/>
                <p:cNvSpPr/>
                <p:nvPr/>
              </p:nvSpPr>
              <p:spPr>
                <a:xfrm>
                  <a:off x="7568640" y="3208320"/>
                  <a:ext cx="0" cy="207360"/>
                </a:xfrm>
                <a:prstGeom prst="line">
                  <a:avLst/>
                </a:prstGeom>
                <a:ln w="3816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Text Box 10"/>
                <p:cNvSpPr/>
                <p:nvPr/>
              </p:nvSpPr>
              <p:spPr>
                <a:xfrm>
                  <a:off x="2627280" y="2349000"/>
                  <a:ext cx="3938400" cy="31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800" spc="-1" strike="noStrike">
                      <a:solidFill>
                        <a:srgbClr val="000000"/>
                      </a:solidFill>
                      <a:latin typeface="微軟正黑體"/>
                      <a:ea typeface="微軟正黑體"/>
                    </a:rPr>
                    <a:t>混合實境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微軟正黑體"/>
                      <a:ea typeface="微軟正黑體"/>
                    </a:rPr>
                    <a:t>(Mixed Reality</a:t>
                  </a:r>
                  <a:r>
                    <a:rPr b="0" lang="zh-TW" sz="2800" spc="-1" strike="noStrike">
                      <a:solidFill>
                        <a:srgbClr val="000000"/>
                      </a:solidFill>
                      <a:latin typeface="微軟正黑體"/>
                      <a:ea typeface="微軟正黑體"/>
                    </a:rPr>
                    <a:t>，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微軟正黑體"/>
                      <a:ea typeface="微軟正黑體"/>
                    </a:rPr>
                    <a:t>MR)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9"/>
                <p:cNvSpPr/>
                <p:nvPr/>
              </p:nvSpPr>
              <p:spPr>
                <a:xfrm>
                  <a:off x="7273080" y="3622320"/>
                  <a:ext cx="492120" cy="153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800" spc="-1" strike="noStrike">
                      <a:solidFill>
                        <a:srgbClr val="000000"/>
                      </a:solidFill>
                      <a:latin typeface="微軟正黑體"/>
                      <a:ea typeface="微軟正黑體"/>
                    </a:rPr>
                    <a:t>虛擬環境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8"/>
                <p:cNvSpPr/>
                <p:nvPr/>
              </p:nvSpPr>
              <p:spPr>
                <a:xfrm>
                  <a:off x="2053440" y="3519360"/>
                  <a:ext cx="1182240" cy="0"/>
                </a:xfrm>
                <a:prstGeom prst="line">
                  <a:avLst/>
                </a:prstGeom>
                <a:ln w="38160">
                  <a:solidFill>
                    <a:srgbClr val="4f81b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7"/>
                <p:cNvSpPr/>
                <p:nvPr/>
              </p:nvSpPr>
              <p:spPr>
                <a:xfrm flipH="1">
                  <a:off x="5794920" y="3519360"/>
                  <a:ext cx="1280520" cy="0"/>
                </a:xfrm>
                <a:prstGeom prst="line">
                  <a:avLst/>
                </a:prstGeom>
                <a:ln w="38160">
                  <a:solidFill>
                    <a:srgbClr val="4f81bd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Text Box 6"/>
                <p:cNvSpPr/>
                <p:nvPr/>
              </p:nvSpPr>
              <p:spPr>
                <a:xfrm>
                  <a:off x="2645280" y="3622320"/>
                  <a:ext cx="492120" cy="17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800" spc="-1" strike="noStrike">
                      <a:solidFill>
                        <a:srgbClr val="000000"/>
                      </a:solidFill>
                      <a:latin typeface="微軟正黑體"/>
                      <a:ea typeface="微軟正黑體"/>
                    </a:rPr>
                    <a:t>擴增實境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Text Box 5"/>
                <p:cNvSpPr/>
                <p:nvPr/>
              </p:nvSpPr>
              <p:spPr>
                <a:xfrm>
                  <a:off x="5697720" y="3622320"/>
                  <a:ext cx="492120" cy="167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800" spc="-1" strike="noStrike">
                      <a:solidFill>
                        <a:srgbClr val="000000"/>
                      </a:solidFill>
                      <a:latin typeface="微軟正黑體"/>
                      <a:ea typeface="微軟正黑體"/>
                    </a:rPr>
                    <a:t>擴增虛擬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" name="Text Box 2"/>
            <p:cNvSpPr/>
            <p:nvPr/>
          </p:nvSpPr>
          <p:spPr>
            <a:xfrm>
              <a:off x="1330920" y="6237000"/>
              <a:ext cx="70574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資料來源：出自 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Milgram, Rakemura, Utsumi and Kishino (1994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虛擬與實境的特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403280" y="2205000"/>
          <a:ext cx="6480360" cy="3260880"/>
        </p:xfrm>
        <a:graphic>
          <a:graphicData uri="http://schemas.openxmlformats.org/drawingml/2006/table">
            <a:tbl>
              <a:tblPr/>
              <a:tblGrid>
                <a:gridCol w="3313080"/>
                <a:gridCol w="3167280"/>
              </a:tblGrid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擴增虛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6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擴增實境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3735"/>
                    </a:solidFill>
                  </a:tcPr>
                </a:tc>
              </a:tr>
              <a:tr h="27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完全虛擬之環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一種身臨其境的感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人與機器間能互相回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強調想像力的意義及影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複合式的景觀環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它結合虛擬與真實世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能夠做到即時性互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3D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立體環境中運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3"/>
          <p:cNvSpPr/>
          <p:nvPr/>
        </p:nvSpPr>
        <p:spPr>
          <a:xfrm>
            <a:off x="1160640" y="1716120"/>
            <a:ext cx="701172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1557360" y="1636560"/>
            <a:ext cx="1455840" cy="14558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689120" y="2033640"/>
            <a:ext cx="11923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實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</a:t>
            </a: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真實世界</a:t>
            </a:r>
            <a:r>
              <a:rPr b="1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7"/>
          <p:cNvGrpSpPr/>
          <p:nvPr/>
        </p:nvGrpSpPr>
        <p:grpSpPr>
          <a:xfrm>
            <a:off x="6188040" y="1636560"/>
            <a:ext cx="1455840" cy="1455840"/>
            <a:chOff x="6188040" y="1636560"/>
            <a:chExt cx="1455840" cy="1455840"/>
          </a:xfrm>
        </p:grpSpPr>
        <p:sp>
          <p:nvSpPr>
            <p:cNvPr id="160" name="Oval 8"/>
            <p:cNvSpPr/>
            <p:nvPr/>
          </p:nvSpPr>
          <p:spPr>
            <a:xfrm>
              <a:off x="6188040" y="1636560"/>
              <a:ext cx="1455840" cy="145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9"/>
            <p:cNvSpPr/>
            <p:nvPr/>
          </p:nvSpPr>
          <p:spPr>
            <a:xfrm>
              <a:off x="6320520" y="2033280"/>
              <a:ext cx="119088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虛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(</a:t>
              </a:r>
              <a:r>
                <a:rPr b="1" lang="zh-TW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媒介世界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Oval 10"/>
          <p:cNvSpPr/>
          <p:nvPr/>
        </p:nvSpPr>
        <p:spPr>
          <a:xfrm>
            <a:off x="3409920" y="2298600"/>
            <a:ext cx="2381400" cy="145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807000" y="2695680"/>
            <a:ext cx="14540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擴增實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技術與環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2"/>
          <p:cNvGrpSpPr/>
          <p:nvPr/>
        </p:nvGrpSpPr>
        <p:grpSpPr>
          <a:xfrm>
            <a:off x="3938760" y="4017960"/>
            <a:ext cx="1455480" cy="1455840"/>
            <a:chOff x="3938760" y="4017960"/>
            <a:chExt cx="1455480" cy="1455840"/>
          </a:xfrm>
        </p:grpSpPr>
        <p:sp>
          <p:nvSpPr>
            <p:cNvPr id="165" name="Oval 13"/>
            <p:cNvSpPr/>
            <p:nvPr/>
          </p:nvSpPr>
          <p:spPr>
            <a:xfrm>
              <a:off x="3938760" y="4017960"/>
              <a:ext cx="1455480" cy="1455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4071240" y="4414680"/>
              <a:ext cx="119052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想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(</a:t>
              </a:r>
              <a:r>
                <a:rPr b="1" lang="zh-TW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創意世界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軟正黑體"/>
                  <a:ea typeface="微軟正黑體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15"/>
          <p:cNvSpPr/>
          <p:nvPr/>
        </p:nvSpPr>
        <p:spPr>
          <a:xfrm rot="16758600">
            <a:off x="2739240" y="2706840"/>
            <a:ext cx="692280" cy="1709640"/>
          </a:xfrm>
          <a:custGeom>
            <a:avLst/>
            <a:gdLst>
              <a:gd name="textAreaLeft" fmla="*/ 92520 w 692280"/>
              <a:gd name="textAreaRight" fmla="*/ 599760 w 692280"/>
              <a:gd name="textAreaTop" fmla="*/ 298800 h 1709640"/>
              <a:gd name="textAreaBottom" fmla="*/ 1239480 h 170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7" stAng="-5400000" swAng="-5400000"/>
                <a:lnTo>
                  <a:pt x="0" y="11881"/>
                </a:lnTo>
                <a:arcTo wR="21600" hR="7557" stAng="10800000" swAng="-2681841"/>
                <a:lnTo>
                  <a:pt x="14400" y="21168"/>
                </a:lnTo>
                <a:lnTo>
                  <a:pt x="21600" y="17275"/>
                </a:lnTo>
                <a:lnTo>
                  <a:pt x="14400" y="12518"/>
                </a:lnTo>
                <a:lnTo>
                  <a:pt x="14400" y="14681"/>
                </a:lnTo>
                <a:arcTo wR="21600" hR="7557" stAng="8118159" swAng="2324034"/>
                <a:lnTo>
                  <a:pt x="903" y="9719"/>
                </a:lnTo>
                <a:arcTo wR="21600" hR="7557" stAng="-10442193" swAng="5042193"/>
                <a:close/>
              </a:path>
              <a:path fill="darkenLess" w="21600" h="21600">
                <a:moveTo>
                  <a:pt x="21600" y="0"/>
                </a:moveTo>
                <a:arcTo wR="21600" hR="7557" stAng="-5400000" swAng="-5400000"/>
                <a:lnTo>
                  <a:pt x="0" y="7557"/>
                </a:lnTo>
                <a:arcTo wR="21600" hR="7557" stAng="10800000" swAng="-357807"/>
                <a:lnTo>
                  <a:pt x="903" y="9719"/>
                </a:lnTo>
                <a:arcTo wR="21600" hR="7557" stAng="-10442193" swAng="5042193"/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6"/>
          <p:cNvSpPr/>
          <p:nvPr/>
        </p:nvSpPr>
        <p:spPr>
          <a:xfrm rot="11228400">
            <a:off x="5495040" y="3091680"/>
            <a:ext cx="692280" cy="1709640"/>
          </a:xfrm>
          <a:custGeom>
            <a:avLst/>
            <a:gdLst>
              <a:gd name="textAreaLeft" fmla="*/ 92520 w 692280"/>
              <a:gd name="textAreaRight" fmla="*/ 599760 w 692280"/>
              <a:gd name="textAreaTop" fmla="*/ 299160 h 1709640"/>
              <a:gd name="textAreaBottom" fmla="*/ 1239480 h 170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 rot="4571400">
            <a:off x="5048280" y="1043640"/>
            <a:ext cx="692280" cy="1852920"/>
          </a:xfrm>
          <a:custGeom>
            <a:avLst/>
            <a:gdLst>
              <a:gd name="textAreaLeft" fmla="*/ 92520 w 692280"/>
              <a:gd name="textAreaRight" fmla="*/ 599760 w 692280"/>
              <a:gd name="textAreaTop" fmla="*/ 324000 h 1852920"/>
              <a:gd name="textAreaBottom" fmla="*/ 1343520 h 185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164040" y="6186960"/>
            <a:ext cx="326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資料來源：修改自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Stapleton et al. (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擴增實境的應用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35"/>
          <p:cNvSpPr/>
          <p:nvPr/>
        </p:nvSpPr>
        <p:spPr>
          <a:xfrm flipV="1">
            <a:off x="3402000" y="4127040"/>
            <a:ext cx="231840" cy="468360"/>
          </a:xfrm>
          <a:prstGeom prst="line">
            <a:avLst/>
          </a:prstGeom>
          <a:ln w="57240">
            <a:solidFill>
              <a:srgbClr val="9933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9"/>
          <p:cNvSpPr/>
          <p:nvPr/>
        </p:nvSpPr>
        <p:spPr>
          <a:xfrm flipH="1" flipV="1">
            <a:off x="1941120" y="2892600"/>
            <a:ext cx="1128600" cy="22651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4"/>
          <p:cNvSpPr/>
          <p:nvPr/>
        </p:nvSpPr>
        <p:spPr>
          <a:xfrm flipV="1">
            <a:off x="3441600" y="2949120"/>
            <a:ext cx="2397240" cy="23497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"/>
          <p:cNvGrpSpPr/>
          <p:nvPr/>
        </p:nvGrpSpPr>
        <p:grpSpPr>
          <a:xfrm>
            <a:off x="5476680" y="4589640"/>
            <a:ext cx="453600" cy="1150560"/>
            <a:chOff x="5476680" y="4589640"/>
            <a:chExt cx="453600" cy="1150560"/>
          </a:xfrm>
        </p:grpSpPr>
        <p:sp>
          <p:nvSpPr>
            <p:cNvPr id="176" name="Freeform 3"/>
            <p:cNvSpPr/>
            <p:nvPr/>
          </p:nvSpPr>
          <p:spPr>
            <a:xfrm rot="5511600">
              <a:off x="5135760" y="4957560"/>
              <a:ext cx="1135080" cy="41724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1270" h="816">
                  <a:moveTo>
                    <a:pt x="0" y="816"/>
                  </a:moveTo>
                  <a:lnTo>
                    <a:pt x="1270" y="0"/>
                  </a:lnTo>
                  <a:lnTo>
                    <a:pt x="1270" y="136"/>
                  </a:lnTo>
                  <a:lnTo>
                    <a:pt x="46" y="816"/>
                  </a:lnTo>
                  <a:lnTo>
                    <a:pt x="0" y="816"/>
                  </a:lnTo>
                  <a:close/>
                </a:path>
              </a:pathLst>
            </a:custGeom>
            <a:gradFill rotWithShape="0">
              <a:gsLst>
                <a:gs pos="0">
                  <a:srgbClr val="3f000c"/>
                </a:gs>
                <a:gs pos="100000">
                  <a:srgbClr val="88001a"/>
                </a:gs>
              </a:gsLst>
              <a:lin ang="121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4"/>
            <p:cNvSpPr/>
            <p:nvPr/>
          </p:nvSpPr>
          <p:spPr>
            <a:xfrm rot="17703600">
              <a:off x="5489640" y="4597920"/>
              <a:ext cx="52560" cy="52560"/>
            </a:xfrm>
            <a:prstGeom prst="ellipse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5"/>
          <p:cNvSpPr/>
          <p:nvPr/>
        </p:nvSpPr>
        <p:spPr>
          <a:xfrm flipV="1">
            <a:off x="4319640" y="2951280"/>
            <a:ext cx="1297080" cy="520560"/>
          </a:xfrm>
          <a:prstGeom prst="line">
            <a:avLst/>
          </a:prstGeom>
          <a:ln w="57240">
            <a:solidFill>
              <a:srgbClr val="68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6"/>
          <p:cNvGrpSpPr/>
          <p:nvPr/>
        </p:nvGrpSpPr>
        <p:grpSpPr>
          <a:xfrm>
            <a:off x="6356520" y="4386240"/>
            <a:ext cx="864720" cy="520200"/>
            <a:chOff x="6356520" y="4386240"/>
            <a:chExt cx="864720" cy="520200"/>
          </a:xfrm>
        </p:grpSpPr>
        <p:sp>
          <p:nvSpPr>
            <p:cNvPr id="180" name="Line 7"/>
            <p:cNvSpPr/>
            <p:nvPr/>
          </p:nvSpPr>
          <p:spPr>
            <a:xfrm>
              <a:off x="6601320" y="4480200"/>
              <a:ext cx="507960" cy="514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6386760" y="4386240"/>
              <a:ext cx="272520" cy="2692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6356520" y="4415040"/>
              <a:ext cx="136800" cy="15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6646320" y="4464360"/>
              <a:ext cx="345960" cy="33264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ca7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6664320" y="4455000"/>
              <a:ext cx="192240" cy="20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7020000" y="4416480"/>
              <a:ext cx="201240" cy="1994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6997680" y="4394160"/>
              <a:ext cx="13140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"/>
            <p:cNvSpPr/>
            <p:nvPr/>
          </p:nvSpPr>
          <p:spPr>
            <a:xfrm>
              <a:off x="6557760" y="4545000"/>
              <a:ext cx="241920" cy="2163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5"/>
            <p:cNvSpPr/>
            <p:nvPr/>
          </p:nvSpPr>
          <p:spPr>
            <a:xfrm flipH="1">
              <a:off x="6952680" y="4575240"/>
              <a:ext cx="157680" cy="18720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6733080" y="4647960"/>
              <a:ext cx="269640" cy="258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7"/>
            <p:cNvSpPr/>
            <p:nvPr/>
          </p:nvSpPr>
          <p:spPr>
            <a:xfrm>
              <a:off x="6739560" y="4684680"/>
              <a:ext cx="141840" cy="133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5744880" y="4633920"/>
            <a:ext cx="1207800" cy="841320"/>
            <a:chOff x="5744880" y="4633920"/>
            <a:chExt cx="1207800" cy="841320"/>
          </a:xfrm>
        </p:grpSpPr>
        <p:sp>
          <p:nvSpPr>
            <p:cNvPr id="192" name="Freeform 19"/>
            <p:cNvSpPr/>
            <p:nvPr/>
          </p:nvSpPr>
          <p:spPr>
            <a:xfrm rot="9407400">
              <a:off x="5781240" y="4851000"/>
              <a:ext cx="1135080" cy="417240"/>
            </a:xfrm>
            <a:custGeom>
              <a:avLst/>
              <a:gdLst>
                <a:gd name="textAreaLeft" fmla="*/ 0 w 1135080"/>
                <a:gd name="textAreaRight" fmla="*/ 1135440 w 1135080"/>
                <a:gd name="textAreaTop" fmla="*/ 0 h 417240"/>
                <a:gd name="textAreaBottom" fmla="*/ 417600 h 417240"/>
              </a:gdLst>
              <a:ahLst/>
              <a:rect l="textAreaLeft" t="textAreaTop" r="textAreaRight" b="textAreaBottom"/>
              <a:pathLst>
                <a:path w="1270" h="816">
                  <a:moveTo>
                    <a:pt x="0" y="816"/>
                  </a:moveTo>
                  <a:lnTo>
                    <a:pt x="1270" y="0"/>
                  </a:lnTo>
                  <a:lnTo>
                    <a:pt x="1270" y="136"/>
                  </a:lnTo>
                  <a:lnTo>
                    <a:pt x="46" y="816"/>
                  </a:lnTo>
                  <a:lnTo>
                    <a:pt x="0" y="816"/>
                  </a:lnTo>
                  <a:close/>
                </a:path>
              </a:pathLst>
            </a:custGeom>
            <a:gradFill rotWithShape="0">
              <a:gsLst>
                <a:gs pos="0">
                  <a:srgbClr val="3f000c"/>
                </a:gs>
                <a:gs pos="100000">
                  <a:srgbClr val="88001a"/>
                </a:gs>
              </a:gsLst>
              <a:lin ang="1219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20"/>
            <p:cNvSpPr/>
            <p:nvPr/>
          </p:nvSpPr>
          <p:spPr>
            <a:xfrm>
              <a:off x="6733800" y="4633920"/>
              <a:ext cx="52560" cy="52560"/>
            </a:xfrm>
            <a:prstGeom prst="ellipse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Line 21"/>
          <p:cNvSpPr/>
          <p:nvPr/>
        </p:nvSpPr>
        <p:spPr>
          <a:xfrm flipV="1">
            <a:off x="5894280" y="5008680"/>
            <a:ext cx="63720" cy="436320"/>
          </a:xfrm>
          <a:prstGeom prst="line">
            <a:avLst/>
          </a:prstGeom>
          <a:ln w="28440">
            <a:solidFill>
              <a:srgbClr val="68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2"/>
          <p:cNvSpPr/>
          <p:nvPr/>
        </p:nvSpPr>
        <p:spPr>
          <a:xfrm>
            <a:off x="5475240" y="5184720"/>
            <a:ext cx="598680" cy="5716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3"/>
          <p:cNvSpPr/>
          <p:nvPr/>
        </p:nvSpPr>
        <p:spPr>
          <a:xfrm>
            <a:off x="5388120" y="5127480"/>
            <a:ext cx="574560" cy="505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24"/>
          <p:cNvSpPr/>
          <p:nvPr/>
        </p:nvSpPr>
        <p:spPr>
          <a:xfrm>
            <a:off x="4149720" y="3932280"/>
            <a:ext cx="1514520" cy="142704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427040"/>
              <a:gd name="textAreaBottom" fmla="*/ 1427040 h 1427040"/>
            </a:gdLst>
            <a:ahLst/>
            <a:rect l="textAreaLeft" t="textAreaTop" r="textAreaRight" b="textAreaBottom"/>
            <a:pathLst>
              <a:path w="998" h="953">
                <a:moveTo>
                  <a:pt x="182" y="0"/>
                </a:moveTo>
                <a:lnTo>
                  <a:pt x="998" y="908"/>
                </a:lnTo>
                <a:lnTo>
                  <a:pt x="953" y="953"/>
                </a:lnTo>
                <a:lnTo>
                  <a:pt x="0" y="91"/>
                </a:lnTo>
                <a:lnTo>
                  <a:pt x="182" y="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100000">
                <a:srgbClr val="4c000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5"/>
          <p:cNvSpPr/>
          <p:nvPr/>
        </p:nvSpPr>
        <p:spPr>
          <a:xfrm>
            <a:off x="1116000" y="1844640"/>
            <a:ext cx="1378080" cy="13780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6"/>
          <p:cNvSpPr/>
          <p:nvPr/>
        </p:nvSpPr>
        <p:spPr>
          <a:xfrm>
            <a:off x="1357200" y="1773360"/>
            <a:ext cx="1063800" cy="1065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7"/>
          <p:cNvSpPr/>
          <p:nvPr/>
        </p:nvSpPr>
        <p:spPr>
          <a:xfrm>
            <a:off x="5425920" y="2143080"/>
            <a:ext cx="1146240" cy="1155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8"/>
          <p:cNvSpPr/>
          <p:nvPr/>
        </p:nvSpPr>
        <p:spPr>
          <a:xfrm>
            <a:off x="5533920" y="2276640"/>
            <a:ext cx="885960" cy="892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住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2494080" y="2565360"/>
            <a:ext cx="2952720" cy="71640"/>
          </a:xfrm>
          <a:prstGeom prst="line">
            <a:avLst/>
          </a:prstGeom>
          <a:ln w="57240">
            <a:solidFill>
              <a:srgbClr val="dc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2982960" y="2781360"/>
            <a:ext cx="1584360" cy="1584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c274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2825640" y="286704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3"/>
          <p:cNvSpPr/>
          <p:nvPr/>
        </p:nvSpPr>
        <p:spPr>
          <a:xfrm>
            <a:off x="5591160" y="5273640"/>
            <a:ext cx="142920" cy="142920"/>
          </a:xfrm>
          <a:prstGeom prst="ellipse">
            <a:avLst/>
          </a:prstGeom>
          <a:solidFill>
            <a:srgbClr val="5800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6"/>
          <p:cNvSpPr/>
          <p:nvPr/>
        </p:nvSpPr>
        <p:spPr>
          <a:xfrm>
            <a:off x="2421000" y="2852640"/>
            <a:ext cx="663480" cy="360360"/>
          </a:xfrm>
          <a:prstGeom prst="line">
            <a:avLst/>
          </a:prstGeom>
          <a:ln w="57240">
            <a:solidFill>
              <a:srgbClr val="68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7"/>
          <p:cNvSpPr/>
          <p:nvPr/>
        </p:nvSpPr>
        <p:spPr>
          <a:xfrm flipV="1">
            <a:off x="5370480" y="5586480"/>
            <a:ext cx="235080" cy="79200"/>
          </a:xfrm>
          <a:prstGeom prst="line">
            <a:avLst/>
          </a:prstGeom>
          <a:ln w="28440">
            <a:solidFill>
              <a:srgbClr val="6800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8"/>
          <p:cNvSpPr/>
          <p:nvPr/>
        </p:nvSpPr>
        <p:spPr>
          <a:xfrm>
            <a:off x="5819760" y="4741920"/>
            <a:ext cx="345960" cy="34272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9"/>
          <p:cNvSpPr/>
          <p:nvPr/>
        </p:nvSpPr>
        <p:spPr>
          <a:xfrm>
            <a:off x="5803920" y="4741920"/>
            <a:ext cx="227160" cy="195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40"/>
          <p:cNvSpPr/>
          <p:nvPr/>
        </p:nvSpPr>
        <p:spPr>
          <a:xfrm>
            <a:off x="5945040" y="5362560"/>
            <a:ext cx="466920" cy="44928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41"/>
          <p:cNvSpPr/>
          <p:nvPr/>
        </p:nvSpPr>
        <p:spPr>
          <a:xfrm>
            <a:off x="6013440" y="5362560"/>
            <a:ext cx="247680" cy="235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2"/>
          <p:cNvSpPr/>
          <p:nvPr/>
        </p:nvSpPr>
        <p:spPr>
          <a:xfrm>
            <a:off x="3454920" y="3290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擴增實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4"/>
          <p:cNvSpPr/>
          <p:nvPr/>
        </p:nvSpPr>
        <p:spPr>
          <a:xfrm>
            <a:off x="1403280" y="2324160"/>
            <a:ext cx="76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食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6"/>
          <p:cNvSpPr/>
          <p:nvPr/>
        </p:nvSpPr>
        <p:spPr>
          <a:xfrm>
            <a:off x="2421000" y="4437000"/>
            <a:ext cx="1584360" cy="15271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7"/>
          <p:cNvSpPr/>
          <p:nvPr/>
        </p:nvSpPr>
        <p:spPr>
          <a:xfrm>
            <a:off x="2349360" y="4437000"/>
            <a:ext cx="1224000" cy="122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8"/>
          <p:cNvSpPr/>
          <p:nvPr/>
        </p:nvSpPr>
        <p:spPr>
          <a:xfrm>
            <a:off x="3043800" y="4987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育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0"/>
          <p:cNvSpPr/>
          <p:nvPr/>
        </p:nvSpPr>
        <p:spPr>
          <a:xfrm flipH="1">
            <a:off x="7588080" y="2735280"/>
            <a:ext cx="51120" cy="2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51"/>
          <p:cNvSpPr/>
          <p:nvPr/>
        </p:nvSpPr>
        <p:spPr>
          <a:xfrm>
            <a:off x="4989600" y="5445000"/>
            <a:ext cx="471240" cy="46368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52"/>
          <p:cNvSpPr/>
          <p:nvPr/>
        </p:nvSpPr>
        <p:spPr>
          <a:xfrm>
            <a:off x="5040360" y="5416560"/>
            <a:ext cx="236520" cy="260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62"/>
          <p:cNvGrpSpPr/>
          <p:nvPr/>
        </p:nvGrpSpPr>
        <p:grpSpPr>
          <a:xfrm>
            <a:off x="5226120" y="4318920"/>
            <a:ext cx="613440" cy="433800"/>
            <a:chOff x="5226120" y="4318920"/>
            <a:chExt cx="613440" cy="433800"/>
          </a:xfrm>
        </p:grpSpPr>
        <p:sp>
          <p:nvSpPr>
            <p:cNvPr id="221" name="Line 63"/>
            <p:cNvSpPr/>
            <p:nvPr/>
          </p:nvSpPr>
          <p:spPr>
            <a:xfrm flipH="1">
              <a:off x="5321520" y="4571280"/>
              <a:ext cx="345960" cy="8424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64"/>
            <p:cNvSpPr/>
            <p:nvPr/>
          </p:nvSpPr>
          <p:spPr>
            <a:xfrm rot="9634800">
              <a:off x="5610600" y="4430160"/>
              <a:ext cx="189720" cy="1864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65"/>
            <p:cNvSpPr/>
            <p:nvPr/>
          </p:nvSpPr>
          <p:spPr>
            <a:xfrm rot="9634800">
              <a:off x="5730480" y="4470480"/>
              <a:ext cx="94320" cy="104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66"/>
            <p:cNvSpPr/>
            <p:nvPr/>
          </p:nvSpPr>
          <p:spPr>
            <a:xfrm rot="9634800">
              <a:off x="5369040" y="4407120"/>
              <a:ext cx="241200" cy="23148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ca7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67"/>
            <p:cNvSpPr/>
            <p:nvPr/>
          </p:nvSpPr>
          <p:spPr>
            <a:xfrm rot="9634800">
              <a:off x="5475600" y="4484160"/>
              <a:ext cx="133560" cy="13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68"/>
            <p:cNvSpPr/>
            <p:nvPr/>
          </p:nvSpPr>
          <p:spPr>
            <a:xfrm rot="9634800">
              <a:off x="5245200" y="4594320"/>
              <a:ext cx="140400" cy="13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69"/>
            <p:cNvSpPr/>
            <p:nvPr/>
          </p:nvSpPr>
          <p:spPr>
            <a:xfrm rot="9634800">
              <a:off x="5323320" y="4656600"/>
              <a:ext cx="92520" cy="7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70"/>
            <p:cNvSpPr/>
            <p:nvPr/>
          </p:nvSpPr>
          <p:spPr>
            <a:xfrm flipH="1" flipV="1">
              <a:off x="5469480" y="4429080"/>
              <a:ext cx="209880" cy="8676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1"/>
            <p:cNvSpPr/>
            <p:nvPr/>
          </p:nvSpPr>
          <p:spPr>
            <a:xfrm flipV="1">
              <a:off x="5311440" y="4467600"/>
              <a:ext cx="60120" cy="15948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72"/>
            <p:cNvSpPr/>
            <p:nvPr/>
          </p:nvSpPr>
          <p:spPr>
            <a:xfrm rot="9634800">
              <a:off x="5328360" y="4344120"/>
              <a:ext cx="185400" cy="1818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73"/>
            <p:cNvSpPr/>
            <p:nvPr/>
          </p:nvSpPr>
          <p:spPr>
            <a:xfrm rot="9634800">
              <a:off x="5412240" y="4392720"/>
              <a:ext cx="100800" cy="95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文字方塊 77"/>
          <p:cNvSpPr/>
          <p:nvPr/>
        </p:nvSpPr>
        <p:spPr>
          <a:xfrm>
            <a:off x="5796000" y="40194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行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字方塊 78"/>
          <p:cNvSpPr/>
          <p:nvPr/>
        </p:nvSpPr>
        <p:spPr>
          <a:xfrm>
            <a:off x="6875640" y="38768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建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字方塊 79"/>
          <p:cNvSpPr/>
          <p:nvPr/>
        </p:nvSpPr>
        <p:spPr>
          <a:xfrm>
            <a:off x="7236000" y="48848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醫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字方塊 80"/>
          <p:cNvSpPr/>
          <p:nvPr/>
        </p:nvSpPr>
        <p:spPr>
          <a:xfrm>
            <a:off x="5435640" y="58928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地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字方塊 81"/>
          <p:cNvSpPr/>
          <p:nvPr/>
        </p:nvSpPr>
        <p:spPr>
          <a:xfrm>
            <a:off x="7667640" y="37321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古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字方塊 82"/>
          <p:cNvSpPr/>
          <p:nvPr/>
        </p:nvSpPr>
        <p:spPr>
          <a:xfrm>
            <a:off x="4284720" y="51721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遊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字方塊 83"/>
          <p:cNvSpPr/>
          <p:nvPr/>
        </p:nvSpPr>
        <p:spPr>
          <a:xfrm>
            <a:off x="4427640" y="58928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字方塊 84"/>
          <p:cNvSpPr/>
          <p:nvPr/>
        </p:nvSpPr>
        <p:spPr>
          <a:xfrm>
            <a:off x="7451640" y="42354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居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字方塊 85"/>
          <p:cNvSpPr/>
          <p:nvPr/>
        </p:nvSpPr>
        <p:spPr>
          <a:xfrm>
            <a:off x="6227640" y="35164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商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字方塊 86"/>
          <p:cNvSpPr/>
          <p:nvPr/>
        </p:nvSpPr>
        <p:spPr>
          <a:xfrm>
            <a:off x="6804000" y="53164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工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字方塊 87"/>
          <p:cNvSpPr/>
          <p:nvPr/>
        </p:nvSpPr>
        <p:spPr>
          <a:xfrm>
            <a:off x="7308720" y="57484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電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字方塊 88"/>
          <p:cNvSpPr/>
          <p:nvPr/>
        </p:nvSpPr>
        <p:spPr>
          <a:xfrm>
            <a:off x="6084720" y="58928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電子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字方塊 90"/>
          <p:cNvSpPr/>
          <p:nvPr/>
        </p:nvSpPr>
        <p:spPr>
          <a:xfrm>
            <a:off x="6948360" y="6237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旅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1116000" y="1964520"/>
            <a:ext cx="755964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在應用層面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AR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可以大致分為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資訊性擴增實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主體互動性擴增實境</a:t>
            </a:r>
            <a:br>
              <a:rPr sz="3000"/>
            </a:br>
            <a:br>
              <a:rPr sz="3000"/>
            </a:br>
            <a:r>
              <a:rPr b="0" lang="zh-TW" sz="3000" spc="-1" strike="noStrike">
                <a:solidFill>
                  <a:srgbClr val="000000"/>
                </a:solidFill>
                <a:latin typeface="微軟正黑體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95640" y="34092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擴增實境的應用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132000" y="333360"/>
            <a:ext cx="6012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資訊性擴增實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76360" y="4941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如應用在區域地圖及大眾交通班表，將景觀</a:t>
            </a: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實境</a:t>
            </a:r>
            <a:r>
              <a:rPr b="0" lang="en-US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中加入文字或多媒體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資訊，有些應用會配合电子指南针、地圖以及全球定位系统，提供區域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服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5530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914400" y="47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如應用在機械维修及醫學手術。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BMW(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寶馬汽車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)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便應用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AR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在汽車维修上。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维修人員只要帶上一幅有顯示功能的眼鏡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, 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配合上聲控功能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, 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维修人員對着汽車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引擎時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,  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眼镜便會顯示出相關配件的位置及操作程序。這樣不但省卻了查閱操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手册的時間</a:t>
            </a:r>
            <a:r>
              <a:rPr b="0" lang="en-US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, 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亦大大減少了出错的機會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影片網址：</a:t>
            </a:r>
            <a:r>
              <a:rPr b="0" lang="en-US" sz="1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http://www.youtube.com/watch?v=P9KPJlA5yds</a:t>
            </a:r>
            <a:r>
              <a:rPr b="0" lang="zh-TW" sz="1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276880" cy="32954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3132000" y="333360"/>
            <a:ext cx="6012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資訊性擴增實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5:38:30Z</dcterms:created>
  <dc:creator>n倪玉旻</dc:creator>
  <dc:description/>
  <dc:language>en-US</dc:language>
  <cp:lastModifiedBy>shtsai</cp:lastModifiedBy>
  <dcterms:modified xsi:type="dcterms:W3CDTF">2010-10-16T07:31:44Z</dcterms:modified>
  <cp:revision>214</cp:revision>
  <dc:subject/>
  <dc:title>投影片 1</dc:title>
</cp:coreProperties>
</file>